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DE7603CB-3BEF-49EC-B833-B329911E50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4724280"/>
            <a:ext cx="4943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5320" y="752400"/>
            <a:ext cx="49449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-57780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124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279440" y="6375240"/>
            <a:ext cx="74678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4DB56A58-911C-47B9-90D5-2367F0FA7586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Single-page_application#cite_note-Flanagan2006-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9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nterneti rakenduste tehnoloogi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7" descr="http://imgs.xkcd.com/comics/the_important_field.png"/>
          <p:cNvPicPr/>
          <p:nvPr/>
        </p:nvPicPr>
        <p:blipFill>
          <a:blip r:embed="rId1"/>
          <a:stretch/>
        </p:blipFill>
        <p:spPr>
          <a:xfrm>
            <a:off x="1371600" y="3124080"/>
            <a:ext cx="6734160" cy="292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 veebilehtede põhikeel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ujunduskeel, mitte programmeerimiskee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ea tutorial:  https://www.w3schools.com/html/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eebirakenduste kursus meil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ttp://lambda.ee/wiki/V%C3%B5rgurakendused_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utvume põhimõtetega loengus tehtavate näidete abi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4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eebilehtede (failide) serv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975960"/>
            <a:ext cx="80773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ed on lihtsalt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mille ette server paneb http-päis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t võetakse reeglina ka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lemasoleva failina arvuti kett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na, mille teeb iga kord uuesti mõni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võib olla külge-ehitatud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va-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serverile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(php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i käia kohe eri-veebiserveri sees (java tomcat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i olla eraldi programm, mille server käivi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ombinatsioonid serverite ahelatega on samuti levin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51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äivitame lihtsa serveri: flask (flask.pocoo.org/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975960"/>
            <a:ext cx="80773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stalli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udo apt-get install python3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udo apt-get install python3-flas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e programm hello.py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rom flask import Flas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 = Flask(__name__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@app.route("/"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ef hello()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return "Hello World!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äivit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LASK_APP=hello.py flask ru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brauser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127.0.0.1:5000/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56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erveeri faile flaski serveri abi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975960"/>
            <a:ext cx="80773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eme väikesed katsefailid katse.txt ja katse.htm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lask serveerib faile kataloogist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tatic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teeme selle ja kopeerim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kdir stati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d stati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p /mnt/c/Users/Tanel/katse.txt 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p /mnt/c/Users/Tanel/katse.html 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brauser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127.0.0.1:5000/static/katse.tx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127.0.0.1:5000/static/katse.htm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61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mete saatmine serverile: cgi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konventsio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9763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RL-i lõpus (peale ?) oleva teksti saab serveri kutsutav programm kät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rauser saadab vormi info cgi-kodeeritult nii: a=1&amp;b=35 jne, kus a ja b jne on välja nimed, võrduse järel aga kasutaja sisestatud väärt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ne url cgi parameetrite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://dijkstra.cs.ttu.ee/~tammet/cgi-bin/loeng/tst6.py?a=1&amp;b=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://dijkstra.cs.ttu.ee/~tammet/cgi-bin/loeng/tst8.py?a=12&amp;b=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t lisaks ja detaile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ambda.ee/wiki/Cgi_exampl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66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data.py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975960"/>
            <a:ext cx="80773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e programm data.py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om flask import Flas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om flask import requ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pp = Flask(__name__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@app.route("/"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ef hello(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 "Hello World!"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@app.route('/cgi/show', methods=['POST', 'GET']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ef cgi(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params={}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keys=request.args.keys(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 key in key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params[key]=request.args.get(key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(str(inparams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brauser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127.0.0.1:5000/cgi/show?a=1&amp;b=2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71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um.py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975960"/>
            <a:ext cx="80773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om flask import Flas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om flask import requ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pp = Flask(__name__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@app.route('/cgi/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', methods=['POST', 'GET']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ef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(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=request.args.get(“a“,0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b=request.args.get(“b“,0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eturn(str(int(a)+int(b)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http://127.0.0.1:5000/cgi/sum?a=1&amp;b=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76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Brauser oskab mitut keel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3280" indent="-321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Iga normaalne brauser mõistab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232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232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Põhiasjad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h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tm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s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j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avascrip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232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Lisatehnoloogiad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WebGL graafika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Canva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Video ja audio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Xsl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Väikesed andmebaasid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8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Teksti paigutamise / lehe kujundamise keel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Loe: http://www.w3schools.com/html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Ametlik standard on HTML5: 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https://www.w3.org/TR/html5/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8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lassikaline veebirake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Server saadab brauserile html teksti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Kasutaja täidab vormid/vajutab nuppe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Brauser saadab serverile sisestatud parameetrid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Bitstream Vera Sans"/>
              </a:rPr>
              <a:t>Server arvutab parameetrite järgi uue html teksti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Brauser kuvab uue html teksti 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Jne ...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9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rakendused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7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-275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ldetuletus: baasprotokoll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-275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 protoko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-275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de tõmbamine ja serveerimin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07320" indent="-2278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http abil faili tõmm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07320" indent="-2278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saatmine serverile: cgi protokol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-275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brauseril sees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07320" indent="-227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07320" indent="-227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07320" indent="-227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-275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lassikaline veebirakendus: server ehitab html tekst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-275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ingle-page app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07320" indent="-227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rver ehitab datat: json tekst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07320" indent="-227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javascript brauseris muudab/ehitab html teksti otse brauseri kõh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-275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asintöödeldav andmete esitamine: JSON j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-275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hnoloogiastac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838080" y="371520"/>
            <a:ext cx="7769520" cy="318960"/>
            <a:chOff x="838080" y="371520"/>
            <a:chExt cx="7769520" cy="318960"/>
          </a:xfrm>
        </p:grpSpPr>
        <p:sp>
          <p:nvSpPr>
            <p:cNvPr id="58" name="Line 4"/>
            <p:cNvSpPr/>
            <p:nvPr/>
          </p:nvSpPr>
          <p:spPr>
            <a:xfrm>
              <a:off x="838080" y="6825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Line 5"/>
            <p:cNvSpPr/>
            <p:nvPr/>
          </p:nvSpPr>
          <p:spPr>
            <a:xfrm flipV="1">
              <a:off x="8607600" y="371520"/>
              <a:ext cx="0" cy="3189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umapp.py       </a:t>
            </a:r>
            <a:r>
              <a:rPr b="0" lang="et-EE" sz="2400" spc="-1" strike="noStrike">
                <a:solidFill>
                  <a:srgbClr val="000099"/>
                </a:solidFill>
                <a:latin typeface="Bitstream Vera Sans"/>
              </a:rPr>
              <a:t>http://127.0.0.1:5000/cgi/sumapp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975960"/>
            <a:ext cx="80773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from flask import Flask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from flask import request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app = Flask(__name__)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@app.route('/cgi/sumapp', methods=['POST', 'GET'])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def myapp():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a=request.args.get("a",0)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b=request.args.get("b",0)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r="sum is: "+str(int(a)+int(b))+"&lt;p&gt;"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s="""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get sum:&lt;p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&lt;form action='/cgi/sumapp'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a &lt;input type='text' name='a'&gt; &lt;br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b &lt;input type='text' name='b'&gt; &lt;p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&lt;input type='submit' value='calculate!'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&lt;/form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"""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if a and b: res=r+s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else: res=s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return(res)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96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äpset teksti paigutust ja kujundust võimaldav keel HTML täienduse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cs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0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Picture 8" descr="http://images.cdn.bigcartel.com/bigcartel/product_images/66597677/max_h-1000+max_w-1000/CSStoHTMLSlate_2445.jpg"/>
          <p:cNvPicPr/>
          <p:nvPr/>
        </p:nvPicPr>
        <p:blipFill>
          <a:blip r:embed="rId1"/>
          <a:stretch/>
        </p:blipFill>
        <p:spPr>
          <a:xfrm>
            <a:off x="3068640" y="3200400"/>
            <a:ext cx="3094200" cy="336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Brauseri programmeerimiskeel: javascripti programmid töötavad otse brauseris: muudavad htmli, css-i, võtavad ühendust serveriga jn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j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07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AutoShape 8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320760" y="-6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473040" y="146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625320" y="298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3448080" y="396252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ingle-page app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Wikipedia ütleb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single-page application (SPA) is a web application or web site that interacts with the user by dynamically rewriting the current page rather than loading entire new pages from a server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is approach avoids interruption of the user experience between successive pages, making the application behave more like a desktop application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 an SPA, either all necessary code – HTML, JavaScript, and CSS – is retrieved with a single page load,</a:t>
            </a:r>
            <a:r>
              <a:rPr b="0" lang="en-US" sz="1800" spc="-1" strike="noStrike" u="sng" baseline="30000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or the appropriate resources are dynamically loaded and added to the page as necessar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17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AutoShape 8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320760" y="-6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473040" y="146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625320" y="298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sum.html rehkendus j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scrip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s otse brauser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div id="ans"&gt;&lt;/div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et sum:&lt;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form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 &lt;input type='text' id='a'&gt; &lt;br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 &lt;input type='text' id='b'&gt; &lt;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input type='button' onclick='calc()' value='calculate with javascript!'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/form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script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unction calc() {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r a,b,res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=document.getElementById('a').value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=document.getElementById('b').value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es=String(parseInt(a)+parseInt(b))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ocument.getElementById('ans').innerHTML="Sum is: "+res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/script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2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AutoShape 8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320760" y="-6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473040" y="146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625320" y="298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JAX:  j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scrip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ynchronous queri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X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b: Javascrip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+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ync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rono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õte selles, et saad brauseris javascriptiga avada serveri urli a la ni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etch(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u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, {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method: "get"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}).then(r=&gt;r.text()).then(handleresult)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 siis brauseris saadud teksti või andmetega (tüüpiliselt javascripti formaadis ehk jsonis) edasi tegutseda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ähtis: seni, kui datat tõmmatakse, sinu javascripti programm ei hangu, vaid käib normaalselt edasi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Bitstream Vera Sans"/>
              </a:rPr>
              <a:t>Ja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35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2sum.html  ajaxiga: rehkendus on serveris!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div id="ans"&gt;&lt;/div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get sum:&lt;p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form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a &lt;input type='text' id='a'&gt; &lt;br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b &lt;input type='text' id='b'&gt; &lt;p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input type='button' onclick='calc()' value='calculate with ajax!'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/form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script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function calc() {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var a,b,url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a=document.getElementById('a').value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b=document.getElementById('b').value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url="/cgi/sum?a="+a+"&amp;b="+b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fetch(url, {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method: "get"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}).then(r=&gt;r.text()).then(handleresult)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function handleresult(r) {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document.getElementById('ans').innerHTML="Sum is: "+r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/script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40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SON ja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848720" cy="69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elmisel kümnendil muutus XML väga populaarseks andme-esituskeele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ejärel hakati kasutama hulka keerulisi lisatehnoloogiad: XSLT, SOAP, XML Schema, UDDI jne, mis muutsid asja keerulise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ejärel muutus populaarseks JSON kui hulga lihtsam andme-esituskeel: lihtsalt javascripti andmesüntaks, väga sarnane pythoni süntaksile a l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{“nimi“: “Tanel“,  “kursused“: [“itv0010“, “itv100“]}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aegu kasutatakse mõlemat, aga JSON on palju populaarsem. Laiatarbe-süsteemid a la Google pakuvad enamasti JSON-is andme-es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4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45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Xtensible Markup Langu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&lt;nimi&gt;A Le Coq&lt;/nimi&gt;&lt;linn&gt;Tartu&lt;/linn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ruktureeritud teksti esitamise formaa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standard ütleb, kuidas teksti struktuuri märgistad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aab kasutada andmete esitamiseks teksti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ht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aga veidi kohmakas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ei o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9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50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SON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 Object Notati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[1,2,“siin on tekst“, [“sisemine“,5], 10]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{“nimi“:“Peeter“,  “pikkus“: 180, “hinded“: [5,3,2] }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sitamise formaa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teksti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scripti programmeerimiskeele „native“ andmestruktuu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äg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liht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mugav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asajal brauserirakendustes eelistatum kui X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i o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55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838080" y="371520"/>
            <a:ext cx="7769520" cy="318960"/>
            <a:chOff x="838080" y="371520"/>
            <a:chExt cx="7769520" cy="318960"/>
          </a:xfrm>
        </p:grpSpPr>
        <p:sp>
          <p:nvSpPr>
            <p:cNvPr id="63" name="Line 4"/>
            <p:cNvSpPr/>
            <p:nvPr/>
          </p:nvSpPr>
          <p:spPr>
            <a:xfrm>
              <a:off x="838080" y="6825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Line 5"/>
            <p:cNvSpPr/>
            <p:nvPr/>
          </p:nvSpPr>
          <p:spPr>
            <a:xfrm flipV="1">
              <a:off x="8607600" y="371520"/>
              <a:ext cx="0" cy="3189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Group 6"/>
          <p:cNvGrpSpPr/>
          <p:nvPr/>
        </p:nvGrpSpPr>
        <p:grpSpPr>
          <a:xfrm>
            <a:off x="2971800" y="5638680"/>
            <a:ext cx="3579840" cy="455760"/>
            <a:chOff x="2971800" y="5638680"/>
            <a:chExt cx="3579840" cy="455760"/>
          </a:xfrm>
        </p:grpSpPr>
        <p:sp>
          <p:nvSpPr>
            <p:cNvPr id="66" name="AutoShape 7"/>
            <p:cNvSpPr/>
            <p:nvPr/>
          </p:nvSpPr>
          <p:spPr>
            <a:xfrm>
              <a:off x="2971800" y="5638680"/>
              <a:ext cx="3579840" cy="4557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AutoShape 8"/>
            <p:cNvSpPr/>
            <p:nvPr/>
          </p:nvSpPr>
          <p:spPr>
            <a:xfrm>
              <a:off x="2971800" y="5638680"/>
              <a:ext cx="35798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Group 9"/>
          <p:cNvGrpSpPr/>
          <p:nvPr/>
        </p:nvGrpSpPr>
        <p:grpSpPr>
          <a:xfrm>
            <a:off x="2971800" y="5029200"/>
            <a:ext cx="3579840" cy="455760"/>
            <a:chOff x="2971800" y="5029200"/>
            <a:chExt cx="3579840" cy="455760"/>
          </a:xfrm>
        </p:grpSpPr>
        <p:sp>
          <p:nvSpPr>
            <p:cNvPr id="69" name="AutoShape 10"/>
            <p:cNvSpPr/>
            <p:nvPr/>
          </p:nvSpPr>
          <p:spPr>
            <a:xfrm>
              <a:off x="2971800" y="5029200"/>
              <a:ext cx="3579840" cy="4557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1"/>
            <p:cNvSpPr/>
            <p:nvPr/>
          </p:nvSpPr>
          <p:spPr>
            <a:xfrm>
              <a:off x="2971800" y="5029200"/>
              <a:ext cx="35798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2895480" y="4038480"/>
            <a:ext cx="3579840" cy="532080"/>
            <a:chOff x="2895480" y="4038480"/>
            <a:chExt cx="3579840" cy="532080"/>
          </a:xfrm>
        </p:grpSpPr>
        <p:sp>
          <p:nvSpPr>
            <p:cNvPr id="72" name="AutoShape 13"/>
            <p:cNvSpPr/>
            <p:nvPr/>
          </p:nvSpPr>
          <p:spPr>
            <a:xfrm>
              <a:off x="2895480" y="4038480"/>
              <a:ext cx="3579840" cy="53208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4"/>
            <p:cNvSpPr/>
            <p:nvPr/>
          </p:nvSpPr>
          <p:spPr>
            <a:xfrm>
              <a:off x="2895480" y="4038480"/>
              <a:ext cx="3579840" cy="53208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133720" y="2666880"/>
            <a:ext cx="1598400" cy="760680"/>
            <a:chOff x="2133720" y="2666880"/>
            <a:chExt cx="1598400" cy="760680"/>
          </a:xfrm>
        </p:grpSpPr>
        <p:sp>
          <p:nvSpPr>
            <p:cNvPr id="75" name="AutoShape 16"/>
            <p:cNvSpPr/>
            <p:nvPr/>
          </p:nvSpPr>
          <p:spPr>
            <a:xfrm>
              <a:off x="2133720" y="2666880"/>
              <a:ext cx="1598400" cy="7606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AutoShape 17"/>
            <p:cNvSpPr/>
            <p:nvPr/>
          </p:nvSpPr>
          <p:spPr>
            <a:xfrm>
              <a:off x="2133720" y="2666880"/>
              <a:ext cx="1598400" cy="7606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5562720" y="2743200"/>
            <a:ext cx="1598400" cy="760320"/>
            <a:chOff x="5562720" y="2743200"/>
            <a:chExt cx="1598400" cy="760320"/>
          </a:xfrm>
        </p:grpSpPr>
        <p:sp>
          <p:nvSpPr>
            <p:cNvPr id="78" name="AutoShape 19"/>
            <p:cNvSpPr/>
            <p:nvPr/>
          </p:nvSpPr>
          <p:spPr>
            <a:xfrm>
              <a:off x="5562720" y="2743200"/>
              <a:ext cx="1598400" cy="7603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5562720" y="2743200"/>
              <a:ext cx="1598400" cy="7603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Group 21"/>
          <p:cNvGrpSpPr/>
          <p:nvPr/>
        </p:nvGrpSpPr>
        <p:grpSpPr>
          <a:xfrm>
            <a:off x="1219320" y="1600200"/>
            <a:ext cx="1065240" cy="684360"/>
            <a:chOff x="1219320" y="1600200"/>
            <a:chExt cx="1065240" cy="684360"/>
          </a:xfrm>
        </p:grpSpPr>
        <p:sp>
          <p:nvSpPr>
            <p:cNvPr id="81" name="AutoShape 22"/>
            <p:cNvSpPr/>
            <p:nvPr/>
          </p:nvSpPr>
          <p:spPr>
            <a:xfrm>
              <a:off x="12193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AutoShape 23"/>
            <p:cNvSpPr/>
            <p:nvPr/>
          </p:nvSpPr>
          <p:spPr>
            <a:xfrm>
              <a:off x="12193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Group 24"/>
          <p:cNvGrpSpPr/>
          <p:nvPr/>
        </p:nvGrpSpPr>
        <p:grpSpPr>
          <a:xfrm>
            <a:off x="2438280" y="1600200"/>
            <a:ext cx="1065240" cy="684360"/>
            <a:chOff x="2438280" y="1600200"/>
            <a:chExt cx="1065240" cy="684360"/>
          </a:xfrm>
        </p:grpSpPr>
        <p:sp>
          <p:nvSpPr>
            <p:cNvPr id="84" name="AutoShape 25"/>
            <p:cNvSpPr/>
            <p:nvPr/>
          </p:nvSpPr>
          <p:spPr>
            <a:xfrm>
              <a:off x="243828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6"/>
            <p:cNvSpPr/>
            <p:nvPr/>
          </p:nvSpPr>
          <p:spPr>
            <a:xfrm>
              <a:off x="243828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27"/>
          <p:cNvGrpSpPr/>
          <p:nvPr/>
        </p:nvGrpSpPr>
        <p:grpSpPr>
          <a:xfrm>
            <a:off x="3657600" y="1600200"/>
            <a:ext cx="1065240" cy="684360"/>
            <a:chOff x="3657600" y="1600200"/>
            <a:chExt cx="1065240" cy="684360"/>
          </a:xfrm>
        </p:grpSpPr>
        <p:sp>
          <p:nvSpPr>
            <p:cNvPr id="87" name="AutoShape 28"/>
            <p:cNvSpPr/>
            <p:nvPr/>
          </p:nvSpPr>
          <p:spPr>
            <a:xfrm>
              <a:off x="365760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AutoShape 29"/>
            <p:cNvSpPr/>
            <p:nvPr/>
          </p:nvSpPr>
          <p:spPr>
            <a:xfrm>
              <a:off x="365760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Group 30"/>
          <p:cNvGrpSpPr/>
          <p:nvPr/>
        </p:nvGrpSpPr>
        <p:grpSpPr>
          <a:xfrm>
            <a:off x="5334120" y="1600200"/>
            <a:ext cx="1065240" cy="684360"/>
            <a:chOff x="5334120" y="1600200"/>
            <a:chExt cx="1065240" cy="684360"/>
          </a:xfrm>
        </p:grpSpPr>
        <p:sp>
          <p:nvSpPr>
            <p:cNvPr id="90" name="AutoShape 31"/>
            <p:cNvSpPr/>
            <p:nvPr/>
          </p:nvSpPr>
          <p:spPr>
            <a:xfrm>
              <a:off x="53341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AutoShape 32"/>
            <p:cNvSpPr/>
            <p:nvPr/>
          </p:nvSpPr>
          <p:spPr>
            <a:xfrm>
              <a:off x="53341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33"/>
          <p:cNvGrpSpPr/>
          <p:nvPr/>
        </p:nvGrpSpPr>
        <p:grpSpPr>
          <a:xfrm>
            <a:off x="6705720" y="1600200"/>
            <a:ext cx="1065240" cy="684360"/>
            <a:chOff x="6705720" y="1600200"/>
            <a:chExt cx="1065240" cy="684360"/>
          </a:xfrm>
        </p:grpSpPr>
        <p:sp>
          <p:nvSpPr>
            <p:cNvPr id="93" name="AutoShape 34"/>
            <p:cNvSpPr/>
            <p:nvPr/>
          </p:nvSpPr>
          <p:spPr>
            <a:xfrm>
              <a:off x="67057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AutoShape 35"/>
            <p:cNvSpPr/>
            <p:nvPr/>
          </p:nvSpPr>
          <p:spPr>
            <a:xfrm>
              <a:off x="67057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Freeform 36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37"/>
          <p:cNvSpPr/>
          <p:nvPr/>
        </p:nvSpPr>
        <p:spPr>
          <a:xfrm flipV="1">
            <a:off x="1066680" y="4026960"/>
            <a:ext cx="838440" cy="13179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38"/>
          <p:cNvSpPr/>
          <p:nvPr/>
        </p:nvSpPr>
        <p:spPr>
          <a:xfrm>
            <a:off x="12384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39"/>
          <p:cNvSpPr/>
          <p:nvPr/>
        </p:nvSpPr>
        <p:spPr>
          <a:xfrm flipH="1" flipV="1">
            <a:off x="3189240" y="3494160"/>
            <a:ext cx="403200" cy="4032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40"/>
          <p:cNvSpPr/>
          <p:nvPr/>
        </p:nvSpPr>
        <p:spPr>
          <a:xfrm flipV="1">
            <a:off x="5410080" y="3569760"/>
            <a:ext cx="38124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41"/>
          <p:cNvSpPr/>
          <p:nvPr/>
        </p:nvSpPr>
        <p:spPr>
          <a:xfrm flipV="1">
            <a:off x="6629400" y="2351160"/>
            <a:ext cx="38088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42"/>
          <p:cNvSpPr/>
          <p:nvPr/>
        </p:nvSpPr>
        <p:spPr>
          <a:xfrm flipH="1" flipV="1">
            <a:off x="6008400" y="2351160"/>
            <a:ext cx="17460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43"/>
          <p:cNvSpPr/>
          <p:nvPr/>
        </p:nvSpPr>
        <p:spPr>
          <a:xfrm flipH="1" flipV="1">
            <a:off x="2122200" y="2274480"/>
            <a:ext cx="17460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44"/>
          <p:cNvSpPr/>
          <p:nvPr/>
        </p:nvSpPr>
        <p:spPr>
          <a:xfrm flipV="1">
            <a:off x="2895480" y="2350800"/>
            <a:ext cx="1800" cy="250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45"/>
          <p:cNvSpPr/>
          <p:nvPr/>
        </p:nvSpPr>
        <p:spPr>
          <a:xfrm flipV="1">
            <a:off x="3429000" y="2274480"/>
            <a:ext cx="30492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46"/>
          <p:cNvSpPr/>
          <p:nvPr/>
        </p:nvSpPr>
        <p:spPr>
          <a:xfrm flipV="1">
            <a:off x="4648320" y="4637160"/>
            <a:ext cx="144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47"/>
          <p:cNvSpPr/>
          <p:nvPr/>
        </p:nvSpPr>
        <p:spPr>
          <a:xfrm flipV="1">
            <a:off x="4648320" y="5474880"/>
            <a:ext cx="1440" cy="174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48"/>
          <p:cNvSpPr/>
          <p:nvPr/>
        </p:nvSpPr>
        <p:spPr>
          <a:xfrm flipH="1">
            <a:off x="6618240" y="5334120"/>
            <a:ext cx="86040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49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50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51"/>
          <p:cNvSpPr/>
          <p:nvPr/>
        </p:nvSpPr>
        <p:spPr>
          <a:xfrm flipV="1">
            <a:off x="609480" y="2274480"/>
            <a:ext cx="609840" cy="6318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2"/>
          <p:cNvSpPr/>
          <p:nvPr/>
        </p:nvSpPr>
        <p:spPr>
          <a:xfrm>
            <a:off x="0" y="2895480"/>
            <a:ext cx="20574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:  rask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eha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mis loeks teisest serverist HTML-lehekülg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leiaks nende sisust kergesti vajaliku inf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ahe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teeme võrgulehekülg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ihtsalt andmetekstina jsonis või xmli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i et programm teises arvutis suudaks neid luged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9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60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Group 6"/>
          <p:cNvGrpSpPr/>
          <p:nvPr/>
        </p:nvGrpSpPr>
        <p:grpSpPr>
          <a:xfrm>
            <a:off x="1905120" y="3962520"/>
            <a:ext cx="455400" cy="531720"/>
            <a:chOff x="1905120" y="3962520"/>
            <a:chExt cx="455400" cy="531720"/>
          </a:xfrm>
        </p:grpSpPr>
        <p:sp>
          <p:nvSpPr>
            <p:cNvPr id="263" name="Freeform 7"/>
            <p:cNvSpPr/>
            <p:nvPr/>
          </p:nvSpPr>
          <p:spPr>
            <a:xfrm>
              <a:off x="1905120" y="3962520"/>
              <a:ext cx="455400" cy="53172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8"/>
            <p:cNvSpPr/>
            <p:nvPr/>
          </p:nvSpPr>
          <p:spPr>
            <a:xfrm>
              <a:off x="2035080" y="4119480"/>
              <a:ext cx="478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9"/>
            <p:cNvSpPr/>
            <p:nvPr/>
          </p:nvSpPr>
          <p:spPr>
            <a:xfrm>
              <a:off x="2182680" y="4119480"/>
              <a:ext cx="478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2008080" y="4344840"/>
              <a:ext cx="25092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7" name="Picture 11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"/>
          <p:cNvPicPr/>
          <p:nvPr/>
        </p:nvPicPr>
        <p:blipFill>
          <a:blip r:embed="rId2"/>
          <a:stretch/>
        </p:blipFill>
        <p:spPr>
          <a:xfrm>
            <a:off x="6477120" y="28954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3" descr=""/>
          <p:cNvPicPr/>
          <p:nvPr/>
        </p:nvPicPr>
        <p:blipFill>
          <a:blip r:embed="rId3"/>
          <a:stretch/>
        </p:blipFill>
        <p:spPr>
          <a:xfrm>
            <a:off x="6400800" y="46483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14"/>
          <p:cNvSpPr/>
          <p:nvPr/>
        </p:nvSpPr>
        <p:spPr>
          <a:xfrm>
            <a:off x="6048360" y="5638680"/>
            <a:ext cx="155448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asteenu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15"/>
          <p:cNvSpPr/>
          <p:nvPr/>
        </p:nvSpPr>
        <p:spPr>
          <a:xfrm>
            <a:off x="3810600" y="4648320"/>
            <a:ext cx="174492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vamis-teen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2514600" y="4114800"/>
            <a:ext cx="1752480" cy="1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7"/>
          <p:cNvSpPr/>
          <p:nvPr/>
        </p:nvSpPr>
        <p:spPr>
          <a:xfrm flipV="1">
            <a:off x="4952880" y="3267000"/>
            <a:ext cx="1447920" cy="781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5105520" y="4191120"/>
            <a:ext cx="11430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4983120" y="30290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cc0000"/>
                </a:solidFill>
                <a:latin typeface="Arial"/>
              </a:rPr>
              <a:t>JS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5638680" y="411480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cc0000"/>
                </a:solidFill>
                <a:latin typeface="Arial"/>
              </a:rPr>
              <a:t>JS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2971800" y="36576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Front-end tehnoloogiastack on päris keeruline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8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514600" y="890640"/>
            <a:ext cx="4835520" cy="596736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3"/>
          <p:cNvSpPr/>
          <p:nvPr/>
        </p:nvSpPr>
        <p:spPr>
          <a:xfrm>
            <a:off x="325440" y="8334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ttps://codeburst.io/the-2018-web-developer-roadmap-826b1b806e8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a back-end (serverirakendus) samuti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88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2819520" y="884160"/>
            <a:ext cx="4114800" cy="59738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8"/>
          <p:cNvSpPr/>
          <p:nvPr/>
        </p:nvSpPr>
        <p:spPr>
          <a:xfrm>
            <a:off x="325440" y="8334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ttps://codeburst.io/the-2018-web-developer-roadmap-826b1b806e8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TCP pea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json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1276200" y="2579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6851520" y="3735360"/>
            <a:ext cx="1940760" cy="1920960"/>
            <a:chOff x="6851520" y="3735360"/>
            <a:chExt cx="1940760" cy="1920960"/>
          </a:xfrm>
        </p:grpSpPr>
        <p:sp>
          <p:nvSpPr>
            <p:cNvPr id="116" name="AutoShape 5"/>
            <p:cNvSpPr/>
            <p:nvPr/>
          </p:nvSpPr>
          <p:spPr>
            <a:xfrm>
              <a:off x="6851520" y="3753000"/>
              <a:ext cx="1892160" cy="1903320"/>
            </a:xfrm>
            <a:custGeom>
              <a:avLst/>
              <a:gdLst>
                <a:gd name="textAreaLeft" fmla="*/ 360 w 1892160"/>
                <a:gd name="textAreaRight" fmla="*/ 1891800 w 1892160"/>
                <a:gd name="textAreaTop" fmla="*/ 360 h 1903320"/>
                <a:gd name="textAreaBottom" fmla="*/ 1902960 h 1903320"/>
              </a:gdLst>
              <a:ahLst/>
              <a:rect l="textAreaLeft" t="textAreaTop" r="textAreaRight" b="textAreaBottom"/>
              <a:pathLst>
                <a:path w="21600" h="21727">
                  <a:moveTo>
                    <a:pt x="21" y="0"/>
                  </a:moveTo>
                  <a:arcTo wR="21" hR="21" stAng="16200000" swAng="-5400000"/>
                  <a:lnTo>
                    <a:pt x="0" y="21706"/>
                  </a:lnTo>
                  <a:arcTo wR="21" hR="21" stAng="10800000" swAng="-5400000"/>
                  <a:lnTo>
                    <a:pt x="21579" y="21727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6899760" y="3735360"/>
              <a:ext cx="1892520" cy="1903680"/>
            </a:xfrm>
            <a:custGeom>
              <a:avLst/>
              <a:gdLst>
                <a:gd name="textAreaLeft" fmla="*/ 360 w 1892520"/>
                <a:gd name="textAreaRight" fmla="*/ 1892160 w 1892520"/>
                <a:gd name="textAreaTop" fmla="*/ 360 h 1903680"/>
                <a:gd name="textAreaBottom" fmla="*/ 1903320 h 1903680"/>
              </a:gdLst>
              <a:ahLst/>
              <a:rect l="textAreaLeft" t="textAreaTop" r="textAreaRight" b="textAreaBottom"/>
              <a:pathLst>
                <a:path w="21600" h="21727">
                  <a:moveTo>
                    <a:pt x="21" y="0"/>
                  </a:moveTo>
                  <a:arcTo wR="21" hR="21" stAng="16200000" swAng="-5400000"/>
                  <a:lnTo>
                    <a:pt x="0" y="21706"/>
                  </a:lnTo>
                  <a:arcTo wR="21" hR="21" stAng="10800000" swAng="-5400000"/>
                  <a:lnTo>
                    <a:pt x="21579" y="21727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ar-SA" sz="2400" spc="-1" strike="noStrike">
                  <a:solidFill>
                    <a:srgbClr val="000000"/>
                  </a:solidFill>
                  <a:latin typeface="Bitstream Vera Sans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Bitstream Vera Sans"/>
                </a:rPr>
                <a:t>või saada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Bitstream Vera Sans"/>
                </a:rPr>
                <a:t>andme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AutoShape 7"/>
          <p:cNvSpPr/>
          <p:nvPr/>
        </p:nvSpPr>
        <p:spPr>
          <a:xfrm>
            <a:off x="1316880" y="2754360"/>
            <a:ext cx="2019240" cy="127692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rguleh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 võ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muid andme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H="1" flipV="1">
            <a:off x="3478320" y="3047760"/>
            <a:ext cx="3162240" cy="9255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483192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478320" y="3735360"/>
            <a:ext cx="3162240" cy="95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pär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TTP päring on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esmajoone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kstiline käsk serveril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na mulle selline fail”, kus näidatakse är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kreetne küsimus-käs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 asukoht ja nim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tokoll, mida küsija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a soovi korral lisainfot, nagu küsija programmi tüüp (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hrome, firefox, curl, 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amas saab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TTP päring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ule kaasa anda teksti kujul andmeid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id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server siis salvestab ja/või rehkendab nende järgi vastus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vastus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ei ole ehitatud “biti või baidi” tasemel, vaid teksti ridade kaup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is, tühi rida, tekstire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: Thu, 06 Nov 2003 13:50:07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ver: Apache/1.3.19 (Unix) PHP/4.1.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-Modified: Sat, 10 Apr 1999 09:29:18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Tag: "46d8-297-370f19ee"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Length: 66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nection: clo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META HTTP-EQUIV="Content-type" CONTENT="text/html; charset=ISO-8859-1"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577800" y="2147760"/>
            <a:ext cx="228600" cy="2362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362320"/>
              <a:gd name="textAreaBottom" fmla="*/ 2362680 h 2362320"/>
            </a:gdLst>
            <a:ahLst/>
            <a:rect l="textAreaLeft" t="textAreaTop" r="textAreaRight" b="textAreaBottom"/>
            <a:pathLst>
              <a:path w="636" h="6562">
                <a:moveTo>
                  <a:pt x="635" y="0"/>
                </a:moveTo>
                <a:cubicBezTo>
                  <a:pt x="476" y="0"/>
                  <a:pt x="317" y="273"/>
                  <a:pt x="317" y="546"/>
                </a:cubicBezTo>
                <a:lnTo>
                  <a:pt x="317" y="2734"/>
                </a:lnTo>
                <a:cubicBezTo>
                  <a:pt x="317" y="3007"/>
                  <a:pt x="158" y="3280"/>
                  <a:pt x="0" y="3280"/>
                </a:cubicBezTo>
                <a:cubicBezTo>
                  <a:pt x="158" y="3280"/>
                  <a:pt x="317" y="3554"/>
                  <a:pt x="317" y="3827"/>
                </a:cubicBezTo>
                <a:lnTo>
                  <a:pt x="317" y="6015"/>
                </a:lnTo>
                <a:cubicBezTo>
                  <a:pt x="317" y="6288"/>
                  <a:pt x="476" y="6561"/>
                  <a:pt x="635" y="656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163080" y="2514600"/>
            <a:ext cx="350640" cy="1557720"/>
          </a:xfrm>
          <a:custGeom>
            <a:avLst/>
            <a:gdLst>
              <a:gd name="textAreaLeft" fmla="*/ 360 w 350640"/>
              <a:gd name="textAreaRight" fmla="*/ 350280 w 350640"/>
              <a:gd name="textAreaTop" fmla="*/ 360 h 1557720"/>
              <a:gd name="textAreaBottom" fmla="*/ 1557360 h 1557720"/>
            </a:gdLst>
            <a:ahLst/>
            <a:rect l="textAreaLeft" t="textAreaTop" r="textAreaRight" b="textAreaBottom"/>
            <a:pathLst>
              <a:path w="21600" h="95882">
                <a:moveTo>
                  <a:pt x="97" y="0"/>
                </a:moveTo>
                <a:arcTo wR="97" hR="97" stAng="16200000" swAng="-5400000"/>
                <a:lnTo>
                  <a:pt x="0" y="95785"/>
                </a:lnTo>
                <a:arcTo wR="97" hR="97" stAng="10800000" swAng="-5400000"/>
                <a:lnTo>
                  <a:pt x="21503" y="95882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5"/>
          <p:cNvSpPr/>
          <p:nvPr/>
        </p:nvSpPr>
        <p:spPr>
          <a:xfrm flipV="1">
            <a:off x="380880" y="4949640"/>
            <a:ext cx="480960" cy="314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177840" y="5181480"/>
            <a:ext cx="689040" cy="826200"/>
          </a:xfrm>
          <a:custGeom>
            <a:avLst/>
            <a:gdLst>
              <a:gd name="textAreaLeft" fmla="*/ 360 w 689040"/>
              <a:gd name="textAreaRight" fmla="*/ 688680 w 689040"/>
              <a:gd name="textAreaTop" fmla="*/ 360 h 826200"/>
              <a:gd name="textAreaBottom" fmla="*/ 825840 h 826200"/>
            </a:gdLst>
            <a:ahLst/>
            <a:rect l="textAreaLeft" t="textAreaTop" r="textAreaRight" b="textAreaBottom"/>
            <a:pathLst>
              <a:path w="21600" h="25897">
                <a:moveTo>
                  <a:pt x="49" y="0"/>
                </a:moveTo>
                <a:arcTo wR="49" hR="49" stAng="16200000" swAng="-5400000"/>
                <a:lnTo>
                  <a:pt x="0" y="25848"/>
                </a:lnTo>
                <a:arcTo wR="49" hR="49" stAng="10800000" swAng="-5400000"/>
                <a:lnTo>
                  <a:pt x="21551" y="2589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8026560" y="5137200"/>
            <a:ext cx="609480" cy="1371600"/>
          </a:xfrm>
          <a:custGeom>
            <a:avLst/>
            <a:gdLst>
              <a:gd name="textAreaLeft" fmla="*/ 0 w 609480"/>
              <a:gd name="textAreaRight" fmla="*/ 609840 w 6094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695" h="3812">
                <a:moveTo>
                  <a:pt x="0" y="0"/>
                </a:moveTo>
                <a:cubicBezTo>
                  <a:pt x="423" y="0"/>
                  <a:pt x="847" y="158"/>
                  <a:pt x="847" y="317"/>
                </a:cubicBezTo>
                <a:lnTo>
                  <a:pt x="847" y="1587"/>
                </a:lnTo>
                <a:cubicBezTo>
                  <a:pt x="847" y="1746"/>
                  <a:pt x="1270" y="1905"/>
                  <a:pt x="1694" y="1905"/>
                </a:cubicBezTo>
                <a:cubicBezTo>
                  <a:pt x="1270" y="1905"/>
                  <a:pt x="847" y="2064"/>
                  <a:pt x="847" y="2223"/>
                </a:cubicBezTo>
                <a:lnTo>
                  <a:pt x="847" y="3493"/>
                </a:lnTo>
                <a:cubicBezTo>
                  <a:pt x="847" y="3652"/>
                  <a:pt x="423" y="3811"/>
                  <a:pt x="0" y="381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7598160" y="4197240"/>
            <a:ext cx="11613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https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TTP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päring on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rüpteeritud variant http päringust: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päring ise ja vastus krüpteeritakse võtmega,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is automaatselt genereeritakse iga ühenduse jaoks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229440" cy="6126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html-faili tõmmat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äsurealt curl programmiga (teine variant salvestab http päise)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url https://news.ycombinator.co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url https://news.ycombinator.com -i  &gt; ajut.tx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i programm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mport urllib.reque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q =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rllib.request.urlopen('http:/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'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tml =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q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.read(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print(html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4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8-11-05T09:16:46Z</dcterms:modified>
  <cp:revision>62</cp:revision>
  <dc:subject/>
  <dc:title> </dc:title>
</cp:coreProperties>
</file>